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ABC-94B3-474A-B63A-90D09E03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AD2-71B5-407C-B2D6-19514162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C21F0-E48C-49EF-92BA-458E1D12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5DC29-7C46-4E0A-8C7D-C1DC1818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99CCD-78C7-43E7-8CDC-3B3C2D11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9FAC9-C19B-43AE-BA9A-1CEB56D0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79E55-C080-4D7F-B600-C2944F52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D1E53-B852-4D2F-9CCC-9114C180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84316-F20A-4F66-9C69-6C89681B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E2D05-5134-4581-A8DF-C6A28DE1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C2E09-88E0-4D5F-8FE3-E980FD62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CF5A7-247D-426E-8A29-8C6374F3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6EA-EBFF-4D78-B86A-21AE94D5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0D703-6DD2-41E9-BB39-7E019994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DAD12-C736-472C-BB9C-E56BC32F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67331-25B6-4C8C-A8CF-1671EBA4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8F17D-403F-451F-BF06-00400329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733DC-2291-4BCE-9643-0BFC0C09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3F15E-CE40-4A05-85C1-1B0DB080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BD7FE-C145-43C4-894B-7816882D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5BA05-43FB-43B0-97BA-C8854D39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64FDA-1AFE-45B9-B7F2-AB940E8D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A6D2E-5403-4712-A088-2D9440C3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752-F37E-4431-B598-A4F6F810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84BF9-DEA3-4CED-B86A-953A4B00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C311A-4429-45E0-B987-7B74FD71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477E5-7505-4958-84A4-60E932CC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30F49-3F57-4279-B0D1-7BD20B25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91AD7-A1D3-47AB-8EB4-086EBDCC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AF9BF-9499-414B-8A6E-2413D293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58B42-73DB-4D5B-A943-7EFFEFFF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037DE-E8F6-4CFB-836C-1F8C6666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F21A6-3BCB-4CF9-A65F-28FFC8C4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5AA50-309D-42BF-AEB0-414CE7DD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68DF-50EB-4498-8A6E-9CADD18A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E776D-B9F2-487C-96F2-6F39D5DF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FBAA9-9B8E-462B-8AFC-E0D9C076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0D090-8B11-4025-B866-D6D46640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6F5CA-03F3-4148-A23B-FBE5FB10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443B0-B5ED-4748-BE9B-1FADEB92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2464A-5D0B-4277-8D61-14415983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EDC89-DAB9-487C-9795-BC4AC3A3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D33D6-FF56-4D4A-A065-EDC382D0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91BDA-F74F-4DDE-9EA8-5E25DDF4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317E4-117F-4CCC-A9D3-46B58321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4E47-B15A-449E-9A82-A0CD83B4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3EB03-BEEF-4C82-BD87-74BD29E5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7625C-21D0-4ECB-99E6-FBE03140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0CBD6-C2CB-4147-9DD7-852D76B8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D3F18-AB24-4BD7-9B91-C0E54033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F8515-1CB6-4BA1-BBD5-04613304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AD914-0A49-48DE-A7FE-ACFE1634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1C5B4-81AF-427D-A473-D22DA18F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4858D-F3BF-41F4-8D45-E312BB68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31212-29AF-4AEF-B5EC-588F2B3D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EB3FD-CAA6-4DBB-A5E9-5D7951AE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EDAA-502E-4B84-9B72-2D651C31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6C194-371E-4987-9DD7-347B3BF2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EAE6E-E04F-49AB-804F-3900764E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60619-0A45-4509-9A7A-C7E566D4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70204-50A5-48B3-8712-CD30E1F8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CDF30-98E0-49DC-9AA3-A2D55339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BF638-A346-4120-90EB-8BAF93CE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8BBBE-5383-4F04-99C1-9D8BB8BE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E2884-A0F0-4948-AA31-70C9D306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7FB66-99C2-4E64-B1A1-75DBFB74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CA9BB-3BAF-4AC6-8E5F-D04785B0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3CE6-7FB4-4045-A688-D824E0AC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E64B5-8E46-46C2-86AE-1DEB92A2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9F7A7-6C93-4555-808F-A4D3CAC4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B54A0-906F-4C1A-9EC7-C152CD0B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DEED3-584A-440C-AF64-DDDEB9D3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7AA15-1817-4672-BCA4-B2C93911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DBAE7-93F1-4418-9628-F7909A23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84F2D6-5F7D-4692-AD71-244BC3DA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E11E1-260A-467B-A4EC-479FB619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4C2DA-C8AE-453C-857B-1E29A28B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9919B-1C7E-4599-8A8F-1DE56709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8B62-82C6-4175-8BDD-815C929E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273E7F-4735-4D66-B98B-77BA1DEF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17B02-EF8A-4B18-9384-0E74E22C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FF197-E22A-454F-BFAC-DCEC64E6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0FA42-8457-4D34-B492-52617431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0C36B-45DF-46AF-98C4-F3EE04B0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B143BA-6C69-4AE0-996F-991D0EBB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38287-6DBA-4792-B0B6-80DE02C3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42450-C54D-4D29-A06C-5E1FF44E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7E606B-2493-4601-91C7-D1B5C639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39D2F-45E4-47C0-9EB9-CAF45F6C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D063-ADEE-47A8-B776-C1780045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0DA31-EBC9-4B84-AF31-2F1A583A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4740E-2A4D-4676-ADB6-F1A4113B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E182A-4F15-4073-B7AE-60EDB38F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BCB2E-5863-46BC-85BC-A2D8D4B9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5A801-B77E-4719-868C-B116E971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28650A-B7B0-474D-8556-B6D3C109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A64FF-E4C6-4864-A83B-D586AF34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BBA7A-3F8C-43D8-9861-2140B799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DF523-4F5D-4A81-B5BB-AE5FD867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80381-EDD5-4E93-9498-5303CEF8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C849-3BA4-44BF-A9F8-79E99CF0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77FDD-8444-4BAF-848F-B844F76C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B0E7C-E81C-4B91-8C83-94FE79A7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ECBB0-C34B-4A86-9CEE-C1F25F85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53316-5FDA-406D-B8C3-2F87B398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B6BC9D-31E0-4D79-8269-269B56E3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BA363-A9C6-4182-9E9B-02547A14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DAAFC2-AEA8-47B7-9218-34AD209A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FFA5A-5596-4465-864C-6E7B675A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1956CF-D5A5-4C9C-8129-4E4DB531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895D55-8A14-4D20-8814-4D64CC6D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72A-A6B0-45F8-8DF8-A047FAD2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9F7E-5D7E-4B29-B224-151246F8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F16FFC-252D-4299-B90A-A108CB8C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6F580-0237-4D66-A215-FDDF3D6D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72447-59DF-4866-AB38-F30D3D3A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000A2-12AB-49AC-9F50-6BDD4D11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F2515-9882-4AEE-B057-1033432D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157B8-3F05-417E-BF53-403AD853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88B79B-417E-490A-8593-14F63095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77C291-8F1F-4852-920C-0513C79B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43700-0162-4784-AA36-9934E020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BDE38-E70F-4F0A-84F2-FE74C237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2880-203A-4C1D-AA1D-5716A46A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296CEA-6FD3-4D1F-96FE-59903B55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476050-2208-43FC-A466-7CB21116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D2C73F-20FC-43FF-86B8-24210336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BD6A67-7FE9-40D4-BCCE-C3FB81C1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251CF-39D3-4706-B69D-70C5D54E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9E55AC-17F9-4F2E-989F-3FE2C0EB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A47608-2728-433D-B8D6-49E35103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A02F0B-20BB-48F7-8F4C-1C647874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EBDBA-8DF4-4053-8487-5BD9D7D1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531462-55E9-45B5-B710-E00BF944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0DFD-1E39-44E6-AA1A-EC2507AD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A1BCE3-D80F-43B9-AF60-58656E09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7D6F0B-8331-4B8C-A793-6F4B6723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38AA1D-577E-4380-87B5-1A14CA07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570A9-EFE3-4F76-93F6-EC6F8D7A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889D25-0D21-49BF-A8C6-5E755549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FE13B-3D07-43AC-8EAB-38B9921C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AA0FF9-473F-4C78-BF94-6074D11A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067F38-7EF4-440B-8EC2-CAAF67F1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259A33-2BD2-4630-A340-D153FAC8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F39B29-BAC8-4289-8687-FF8C61EE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EBCC-6B55-4208-ADD3-F49A0FCB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8EC126-6483-4BF7-98C2-27D636B4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A34184-17EE-4FD2-B7FF-40F839D9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B92E5E-6F95-4D60-ABCD-FA6EFDD6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5B3114-0AEF-47A0-9299-6F14569C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DA91E4-2EBF-4CD9-BB9A-382FF6EE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CEBA1E-320B-4101-A954-6D388ABB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B64CF1-50BD-4F51-BA04-B355F6CF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4BB561-645B-4C13-8B2E-17209056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A47467-5BAA-404B-AF28-1B249DA0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4239A0-E780-42B6-B022-1A0C3C1C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B3F7-FEB2-475D-ACA3-3ABBEEF0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D96CF-FC79-4879-9103-4A044F22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F947F9-78A0-412A-9922-07017A4A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04506-281E-4EAF-9DBF-CACCF9CC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C5921A-497B-451C-8519-6CD29A7A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757405-350C-4044-99DC-77FF9C51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D734BA-FFE5-4844-B311-77E45CCF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15E6F9-0866-4529-83C5-CC84DCA4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109504-0529-437D-A976-B93B1FDC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F278E6-2BE6-41EC-ACC3-7B3D43D8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66913F-8AF2-4841-BA6A-482D839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BA684-C5A0-47A4-BEAF-B36110E5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0E51CB-2876-4BC0-81A7-5641EA58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EE2FAE-66EB-470D-9D47-1DA8B607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EAF61F-3D70-45C9-91AE-18B38A92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D552-9530-4706-8AF5-1CBAACA2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E649-4276-4DDD-93B7-005E02A0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0B4C-0067-4AA8-91BE-B5FCDB12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A5FD-3C28-4110-890C-08FC223A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436-D7D3-4EA3-870E-549564AE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5F3C6-2EB4-4AEF-9A3D-F14FB3AB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41DD-203A-4714-A709-FDA4D043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0DB8-40F2-4CDE-8C4A-F600BD49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31EA-F9AB-4644-A81C-0D24EA60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AEEDE-45F7-429A-AE2A-B362BC05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FA14-A875-4A62-AC57-8CE1B5FD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9B59-92F2-4E9B-9248-5DA30710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9F680-E8EC-4C5B-91D2-4F36B7AF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4C459-EBF7-4145-90CB-E6AD6F0A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37C99-C24C-4D1B-8ADC-FF0D6520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58F-AB54-4857-A349-F036F515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1502-02F6-41EF-A839-CB1F9D1D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CCF24-7151-402D-B9D2-6BA8BB30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EA4FF-D486-452E-855D-00BE84F7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47F89-27FB-4AEF-8131-66085BCE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0F24A-3B24-49E4-8027-53D5D2DD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12D2-9F3C-4BF1-B01E-C71CCB97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CFCBB-C1AC-4FA8-B9BF-EA1D9C22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23224-E649-4824-8A10-C071DE37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2492-622E-440B-88FD-20851F7B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284CF-3DBF-439D-8DB7-3F214917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1F6-8EFB-4AA8-9E92-557ACF1D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0D104-19E9-4A54-B024-74CA0CC3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56042-4D92-4945-9FCD-027F8708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93120-7B1C-4C6F-BCB7-CFD8A5B4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81FD0-2080-403E-AB36-AAC83614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47955-5000-46E9-AC9C-BD10A4BD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3640A-EAD8-405C-8E5F-A6F57943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9DD39-DC50-4138-A35B-6DA9410F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69B8D-4074-4B30-9873-344EC456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5293A-1798-4BDC-A0A4-B98374BA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ECD4D-8586-49D9-B2CC-119DDB7D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A25-5FCF-4A1F-B89C-1192559B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079BC-2DD1-44CE-8B59-3A8A7A1E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99429-6450-469A-B5BA-BBB285FD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12837-E2D5-4B52-928D-067CF20B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B0D13-7681-41E5-A3A4-3F916296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68372-44AC-4452-BA9C-77B62B08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5B448-40D2-4FD9-BA5D-520C8243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F956B-4068-4B1C-A7B2-CBB4F7D5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51BB9-45FA-4460-8C82-E70D830F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D7593-3C86-4739-B612-27C22766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A1DB3-62B9-474D-8916-0C7B484D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B59-53BC-4D1D-BEFA-010E0821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C9A5D-BEF7-4C74-91AD-0FFF7467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73C83-3F70-4516-AEAC-BB024988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6875D-F9E1-4C1A-A867-FAE4CFF5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E1003-B4FB-4B07-B4CD-411DAAD6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6FFF2-0851-41AD-B5E4-53C9B192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69823-385C-46E1-AC42-C04747E2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D0102-195D-4CD0-8971-09C95933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B8BF4-056A-4614-9F95-F0445EAE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7D427-4A14-4034-BA77-843C910E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1E2B2-3C8F-4446-AF2C-A1A83C5B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0D4-9244-44D5-85B3-5127F33B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C6F54-E60B-4DD5-8E1F-87DE7688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0BF5E-7D86-4FE3-A1F6-0B3B6619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D5243-4592-498A-926E-587D09E9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A684C-B7BC-486F-B788-F4A7B8F9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21332-7501-43B2-8622-02B47333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C14B4-41BA-4BDF-A349-386C5220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A2164-D657-4AA4-9AA5-4427FE0E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C0D69-620C-4EB0-8DA6-AE03D40B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BCC4D-DB0B-4651-9C9B-3605AAAD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7A79E-BBBD-4B32-B11A-430DB609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83C-05F1-428D-BC9E-A2E52E44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E5460-5B62-4435-8722-73A59FFF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88C9D-03B2-44AA-B256-25F1BD1E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89BBE-30F3-4433-8AD4-5A05A148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9DCA1-3063-431F-8636-C55A779D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148DD-DD14-4897-9ED4-06A6D017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0E540-1856-4E04-884C-D18C62A8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17A56-95C2-413E-866D-24EEDB09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C76A1-F51A-446F-BB96-FE2EE386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935EE-01FC-4424-9653-84D8B0BE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F5195-0BD0-417E-BDCD-D61A676F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6EF8-6C4E-4388-B09C-C9CAB5EC3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EC7C-B503-4391-AA5E-3BF3E8566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63DD-D545-4C4B-93E9-02EF7115B6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1B37-14F2-4F14-9A65-504D045674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83FC-8ED9-4A1C-AB13-9B7C04B3E1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BA00-018E-4F5F-8741-123AC292CF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16A4-F71E-4419-9363-ABD9CDA92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064C-BFB4-4BC5-8951-A43A03A80C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5A87-37AE-41E0-A641-5CFD62C82F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C87C-8BCB-4156-9C0B-5C30C6DE70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1EE1-924F-402B-B7B3-7BAF4EFAF5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E9E4-4355-4A7D-ADAC-3D05F34E5B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9576-DAF8-4352-8752-D5E862572D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13A9-B3FA-45A3-B62C-AC372B451A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6AA5-196E-4F97-94C6-A148597AED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D23F-821E-4495-9D55-C46BC4C73A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0EFA-9582-46DC-A4D1-0632397414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0EC1-B8B1-40D0-B999-882FB63D48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6B4D-D495-4D46-A364-4E72C36C0F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1BD5-B79B-4724-85B8-B09252C3F5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6F64-0B20-4A28-96DF-E0E553EBF1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2881-E61F-42BE-BCF9-8E446697C1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E124-01B8-450D-9883-0F2C90E110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DF63-9E9E-457D-BEA9-77093B45EA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242C-66C5-46A6-B4E1-7D05E4A531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4D9F-4EA3-4B1F-BEBC-EEEA939EC2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1936-B9B0-49EA-BF3C-9F23FD77D5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CF71-478E-4645-B591-827F8AC73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E3E7-B8CB-4F0C-9C96-B97980729D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9178-6FCC-4A5E-8C4B-37240A84CE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4E86-77C9-40CD-ACDC-6504016B23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0E91-4DFC-4292-984D-78B792C272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E077-0E64-486D-BDF4-093C90D4C0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F601-2C82-4C1C-B2FA-51AF290E36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DB5B-ABFE-41B4-9445-CB54DCF72B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F0DB-D1FF-48AD-9D13-BC90491D03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0E00-1285-4307-BF8A-A2D8D7A116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11F8-6429-447C-9932-38F3702E8E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DDF0-0BB6-4FE1-8F9E-8857EBB239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F2AE-1BF6-4175-AFD2-9EFDEAE998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57120" y="3222720"/>
            <a:ext cx="857268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7486920" cy="54864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2"/>
          <a:stretch/>
        </p:blipFill>
        <p:spPr>
          <a:xfrm>
            <a:off x="1403280" y="9810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3"/>
          <a:stretch/>
        </p:blipFill>
        <p:spPr>
          <a:xfrm>
            <a:off x="1403280" y="27036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4"/>
          <a:stretch/>
        </p:blipFill>
        <p:spPr>
          <a:xfrm>
            <a:off x="1403280" y="3782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5"/>
          <a:stretch/>
        </p:blipFill>
        <p:spPr>
          <a:xfrm>
            <a:off x="1403280" y="551664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42880" y="1190520"/>
            <a:ext cx="8058240" cy="4476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643040" y="4786200"/>
            <a:ext cx="3362400" cy="914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5286240" y="4786200"/>
            <a:ext cx="3362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852480" y="1547640"/>
            <a:ext cx="7439040" cy="3762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1500120" y="3786120"/>
            <a:ext cx="3362400" cy="914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3"/>
          <a:stretch/>
        </p:blipFill>
        <p:spPr>
          <a:xfrm>
            <a:off x="5000760" y="3786120"/>
            <a:ext cx="3362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2185920" y="1857240"/>
            <a:ext cx="4772160" cy="31435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2786040" y="4071960"/>
            <a:ext cx="3362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619200" y="1509840"/>
            <a:ext cx="7905600" cy="38383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2"/>
          <a:stretch/>
        </p:blipFill>
        <p:spPr>
          <a:xfrm>
            <a:off x="1836720" y="24145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933480" y="731880"/>
            <a:ext cx="7277040" cy="6114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3"/>
          <a:stretch/>
        </p:blipFill>
        <p:spPr>
          <a:xfrm>
            <a:off x="1352520" y="392760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523800" y="843120"/>
            <a:ext cx="8096400" cy="5800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2"/>
          <a:stretch/>
        </p:blipFill>
        <p:spPr>
          <a:xfrm>
            <a:off x="1692360" y="4508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3"/>
          <a:stretch/>
        </p:blipFill>
        <p:spPr>
          <a:xfrm>
            <a:off x="1619280" y="5592600"/>
            <a:ext cx="43164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480960" y="933480"/>
            <a:ext cx="8182080" cy="56386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3"/>
          <a:stretch/>
        </p:blipFill>
        <p:spPr>
          <a:xfrm>
            <a:off x="1805040" y="4357800"/>
            <a:ext cx="7267680" cy="8474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4"/>
          <a:stretch/>
        </p:blipFill>
        <p:spPr>
          <a:xfrm>
            <a:off x="1805040" y="5715000"/>
            <a:ext cx="726768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81439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9:44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